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A8193-AFEF-45ED-9256-A538C1F91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AE680-48E0-4C87-A3C7-36DD70F8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EA32A-DA2A-41EC-A3DD-CB5A613C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21678-3AC4-4D9F-983E-92B645D6C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EAF3C-699E-4DEE-8B87-472D6CE0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B7E05-1DDE-46DC-8BC0-327FC3F9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361A5-5C4B-4BA8-A83A-6A2699E9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B7D61-3972-4F07-B24D-62DADA65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9EC36-2DA8-42FF-8D1A-EEAB40D9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C520A-C8CF-4385-990D-8047E506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07E5F-C64C-4736-A5A3-11E78F6A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AA36A-1999-42C2-AB65-D77C28DA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5D3D-675B-4955-AE91-B562A70C713F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дание третье «Электрическая цепь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а) найти ошибку в схеме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б) собрать электрическую цепь, измерить силу тока в цепи и напряжение на резистор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Ошибка в схем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2" name="Объект 1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3440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Ошибка в схем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4" name="Объект 2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480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«</a:t>
            </a: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наешь ли ты свой учебник физики?» 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1.Кто автор учебника?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2.   Что изображено на обложке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3.   Каково содержание форзацев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4.   Какова структура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5.  Сколько страниц в учебнике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Дополнительно, что можете сообщить про учебник физики 8 класса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«Загадки о физиках-учителях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Подсказки: угадаете ответ с первой подсказки, получите 5 баллов;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о второй – 4 балла и т. д.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 последней – 1 балл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первая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360" y="1844280"/>
            <a:ext cx="845964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С 1820 – 1825 гг.. он опубликовал ряд теоретических и экспериментальных трудов по электродинамик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Его отец  - жирондист, исполнявший обязанности судьи при мятежниках, был казнён как сообщник аристократов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В 1812 преподавал физику и химию в центральной школе г. Бугр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Его фамилия есть в названии прибора, измеряющего силу ток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Название единицы силы ток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3288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Ампер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36338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вторая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000" y="177300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Его знания по физике были весьма скудными, но он был вынужден преподавать предмет, т. к. в США был кризис и, с работой было туго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Абердинский колледж присудил ему за курс физики степень магистр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Работал у Альберта Майкельсона – тонкого знатока физического эксперимент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Создал для средних школ и колледжей первые американские учебники физики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Определил заряд электрона, удостоен Нобелевской премии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Роберт Миллекен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3367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третья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Он родился в г. Ромны Полтавской губернии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В 1901 г. для приобретения опыта в постановке эксперимента уезжает к Рентгену в г. Мюнхен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Отец современной физики (под его руководством создаётся </a:t>
            </a:r>
            <a:r>
              <a:rPr b="0" lang="ru-RU" sz="26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Физико-технологический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институт)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Им было воспитано несколько поколений российских физиков 20 века (среди них П. Капица, И. Курчатов). Он был Учителем с большой буквы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Одновременно с Р. Милликеном определил дискретность электрического заряда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Урок - вечер  </a:t>
            </a:r>
            <a:br>
              <a:rPr sz="4800"/>
            </a:b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«Учёные, учителя - физики», </a:t>
            </a:r>
            <a:br>
              <a:rPr sz="4800"/>
            </a:b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8 класс.</a:t>
            </a:r>
            <a:br>
              <a:rPr sz="4800"/>
            </a:br>
            <a:r>
              <a:rPr b="0" lang="ru-RU" sz="6600" spc="-1" strike="noStrike">
                <a:solidFill>
                  <a:srgbClr val="675e47"/>
                </a:solidFill>
                <a:latin typeface="Cambria"/>
              </a:rPr>
              <a:t> </a:t>
            </a:r>
            <a:br>
              <a:rPr sz="6600"/>
            </a:br>
            <a:r>
              <a:rPr b="0" lang="ru-RU" sz="6600" spc="-1" strike="noStrike">
                <a:solidFill>
                  <a:srgbClr val="675e47"/>
                </a:solidFill>
                <a:latin typeface="Cambria"/>
              </a:rPr>
              <a:t> 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8d8c"/>
                </a:solidFill>
                <a:latin typeface="Calibri"/>
              </a:rPr>
              <a:t>Презентация Кузьминой Л. В. – учителя физики ВБСОУ ОСОШ № 1 г. Калуги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Иоффе А. Ф.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2556000" y="1600200"/>
            <a:ext cx="3868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четвёртая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78920" y="1599840"/>
            <a:ext cx="8280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Он родился 16 марта 1789 г. в  Эрлангене,  в семье потомственного слесаря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Отец передал сыну не только знания и опыт работы с металлом, что пригодилось потом учёному при изготовлении приборов и устройств для научных исследований, но и свою настойчивость в достижении цели, работоспособность и веру в справедливость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Проучившись три семестра в университете, он в сентябре 1806 г. стал работать учителем математики в частной школе швейцарского городка Готтштадта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Он открыл теоретически  и подтвердил на опыте закон, выражающий связь между силой тока в цепи, напряжением и сопротивлением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В 1881 г. на электротехническом съезде в Париже учёные единогласно утвердили название единицы сопротивления …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00280" y="2599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Георг Ом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2843280" y="1700280"/>
            <a:ext cx="353376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ключительное слово.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2b20"/>
                </a:solidFill>
                <a:latin typeface="Calibri"/>
              </a:rPr>
              <a:t>Подведение итогов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Литература: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.А. Волков, С. Е. Полянский. Поурочные разработки по физике. М.: ВАКО, 7-9 кл. 2005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Кубеев М. Н. Сто великих имён России.- М.: Вече, 2010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Иоффе А. В. О физике и физиках.- Ленинград, «Наука», 1977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татья газеты «Весть» «Благодетели образования», 14 февраля 2008, четверг. №51-54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Пёрышкин А. В. Физика. 8 кл.: Учеб. для общеобразоват. учреждений. – 6-е изд., стереотип. – М.: Дрофа, 2004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4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Cambria"/>
              </a:rPr>
              <a:t>Цели урока: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Познакомить учащихся с деятельностью учёных физиков, которые в своё время работали учителями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Показать наиболее примечательные черты их мироззрения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Методы получения научных знаний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Сформировать правильное представление о характере научного труда учёных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Содержани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0920" y="1341000"/>
            <a:ext cx="8353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</a:t>
            </a: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ступительное слово учителя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 Задания для команд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 первое: «Найди правильную дорогу»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второе. Каждая команда рассказывает об учёном-учителе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третье – экспериментальное: «Электрическая цепь»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четвёртое: «Знаешь ли ты свой учебник физики?»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пятое: «Загадки о физиках-учителях»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(Ампер, Аристотель, Пёрышкин А. В., Милликен Р.,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Циолковский К. Э., Ломоносов М. В., Иоффе А. Ф., Попов А. С.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Заключительное слово учителя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 </a:t>
            </a: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дание   первое: «Найди правильную дорогу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 три столбика выписаны обозначения физических величин, их единицы и их названия. Необходимо стрелками соединить каждую физическую величину со своей единицей измерения и названием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Первая команда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95280" y="1600200"/>
          <a:ext cx="7682040" cy="4492800"/>
        </p:xfrm>
        <a:graphic>
          <a:graphicData uri="http://schemas.openxmlformats.org/drawingml/2006/table">
            <a:tbl>
              <a:tblPr/>
              <a:tblGrid>
                <a:gridCol w="2560680"/>
                <a:gridCol w="1832040"/>
                <a:gridCol w="3289320"/>
              </a:tblGrid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ощадь сечения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Кл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Сопротивл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²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Сила ток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О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заряд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Вторая команда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7786800" cy="4924440"/>
        </p:xfrm>
        <a:graphic>
          <a:graphicData uri="http://schemas.openxmlformats.org/drawingml/2006/table">
            <a:tbl>
              <a:tblPr/>
              <a:tblGrid>
                <a:gridCol w="2595600"/>
                <a:gridCol w="1735200"/>
                <a:gridCol w="3456000"/>
              </a:tblGrid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ρ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дельное сопротивл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985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ℓ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Ом*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ощность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98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Длин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Дж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напряж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Cambria"/>
              </a:rPr>
              <a:t>Биография учёного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2987640" y="1542960"/>
            <a:ext cx="3456000" cy="49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Биография учёного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352908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1T12:46:36Z</dcterms:created>
  <dc:creator>Кузьмина</dc:creator>
  <dc:description/>
  <dc:language>en-US</dc:language>
  <cp:lastModifiedBy>Кузьмина</cp:lastModifiedBy>
  <dcterms:modified xsi:type="dcterms:W3CDTF">2014-01-11T13:38:13Z</dcterms:modified>
  <cp:revision>18</cp:revision>
  <dc:subject/>
  <dc:title>Презентация PowerPoint</dc:title>
</cp:coreProperties>
</file>